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BBC-268B-4458-94A9-696C5A17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165-F5F6-49F0-BF53-7EAC129A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917-2B0D-4157-9C89-DB88E50E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21E-AC4F-426C-A50F-71D551B1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4350-7C63-4525-ADEF-7B564899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3AEF-C563-4A8A-8678-B1A348B9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142C-DBC8-4647-8F8F-F2F339F1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A3AB-E5A9-4D7F-B926-4335DA9E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91FE-A406-459D-ABBA-B4E5247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595D-3668-4D5E-902A-97AC276B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F68A-76DA-474D-BFB0-9940E1AD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68A-6BA2-4845-B818-EDF76F51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E85C-126B-4CCF-B842-1456004D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6560-715E-4C2B-960F-518987A8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6ED8-D4F6-487C-8E45-5922569A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4BF3-3DE4-4B7B-ACEF-592160DF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7933-909D-46D3-8E60-C94BA247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3B6-F6D8-45C9-81FA-6B051B8D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C5B-997C-4D85-914F-166F2BA2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816-DAF4-4BC6-A593-A20F8506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396-9A93-410C-B929-BDE99377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9AA-1DFB-4CF3-9211-BF3A65B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23F5-42C7-46BD-B186-FFAF6B20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26E-B940-43B7-8E62-2663FF07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2D43-0712-4C14-9034-A942A38780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04E-F051-4670-8296-CFC39F7B3B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ill There Was No Remedy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* * *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udah Alon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010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7, Lesson 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62-16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ings 24-25; Jer. 24; 29; 27; 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EBFA-7BDF-461A-A87F-9DCD59008363}" type="slidenum">
              <a:t>1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hoiakim’s Last D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gs.24:1-6; Jer.22:18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d Nebuchadnezzar 3 y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Rebelled Against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ably when the Egyptians defeated the Babylonians in bat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buchadnezzar went home to lick his wounds and rebuild his a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is time Jehoiakim d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Nebuchadnezzar returned, Jehoiachin was ruling in Jerusa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BBA-1D63-4AE7-BEA2-9C43327063D5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hoiachin (Coniah, Jeconiah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gned 3 months (wicked) – 2 Kgs.24:8-15; 25:27-30; 2 Chron. 36:9-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’s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cked by Nebuchadnezz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emiah said “Record this man as if he were childless” – Jer. 22:24-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e would reign in Jerusalem from Jehoiachin (Conia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t, a descendant of David would branch out and be “The Lord Our Righteousness” - 23:5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39D-B924-44FD-AFF8-80D75C1F2E0D}" type="slidenum">
              <a:t>3</a:t>
            </a:fld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hoiachin (Coniah, Jeconiah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gned 3 months (wicked)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ings 24:8-15; 25:27-30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hron. 36:9-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ives were taken, including Ezeki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7 years into his exile, Jehoiachin was released from prison – 2 Kings 25:27-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DC9-90B3-4CE9-A5D5-D9AD9610F89B}" type="slidenum">
              <a:t>4</a:t>
            </a:fld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edekiah (Mattaniah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 years (wicked) – 2 Kings 24:17 – 25:7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hron. 36:10-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cle to Jehoiac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son of Jos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ed by Nebuchadnezzar as a pupp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emiah’s vision of two baskets of fig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Jer. 24:1-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people will be preserved in Babyl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dekiah, and others like him, would be cur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154-06EE-4EBD-B615-DDC75092C431}" type="slidenum">
              <a:t>5</a:t>
            </a:fld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eremiah’s Message to the Captiv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. 29:1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fort: You will return in 7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emnation: Jerusalem’s sinful people and the lying, immoral prophets in Babyl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0BE-1004-4E27-8420-C395CBC51D46}" type="slidenum">
              <a:t>6</a:t>
            </a:fld>
          </a:p>
        </p:txBody>
      </p: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mise of a Better Da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 of the gloom of their captivity there was a wonderful hope to hold on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ould return home one 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ould have fellowship with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ould have a new and better covenant with Him – Jer. 30-3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A7A-05ED-4B1F-AA4B-AF86D280B99B}" type="slidenum">
              <a:t>7</a:t>
            </a:fld>
          </a:p>
        </p:txBody>
      </p:sp>
    </p:spTree>
  </p:cSld>
  <p:transition spd="med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flict Between Jeremiah and Hanania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27:1 – 28: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spoke of surrender and a yoke of bond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aniah spoke of peace in two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emiah said Hananiah would die that very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aniah died in two mont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236-7100-421B-80CD-C140B888DD72}" type="slidenum">
              <a:t>8</a:t>
            </a:fld>
          </a:p>
        </p:txBody>
      </p:sp>
    </p:spTree>
  </p:cSld>
  <p:transition spd="med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20:19:13Z</dcterms:created>
  <dc:creator>Terry W. Benton</dc:creator>
  <dc:description/>
  <dc:language>en-US</dc:language>
  <cp:lastModifiedBy>Frank D Vines</cp:lastModifiedBy>
  <dcterms:modified xsi:type="dcterms:W3CDTF">2006-03-26T14:52:38Z</dcterms:modified>
  <cp:revision>7</cp:revision>
  <dc:subject/>
  <dc:title>Till There Was No Remedy Divided Kingdom - 2</dc:title>
</cp:coreProperties>
</file>